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0311-D25A-449B-B91E-ABAB97CB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D9A5-DE99-4F71-B80F-29A04ED7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5A94-6755-4148-A1B6-BEB806E5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0F18-CB00-4BF4-9FCA-E1226C41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8B54-644E-4C2D-8249-C7614095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EE23-3D57-482E-9CA9-18A241F9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7C1C-8471-4168-AB7E-1C7721F7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B9EC-F6FA-4840-9B4C-BBA9E68A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D753-FEE9-4DD3-9537-C5E80715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156F-851F-4C8B-8532-A09A54C8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D88F-4AF2-4D3E-8424-AA85176E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BF42-FB23-4565-A725-3D9DED38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E4B9-3C8B-4CEA-9D5E-23174FB0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FCCA-25EC-4ABA-974B-51451388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4DB5-3B30-475B-94E3-42F43974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40CB-30FC-4941-8073-502815B3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1ACD-927C-4877-8A89-2BB2AF82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3F13-1C7C-49DA-8736-ABE7F31F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3997-B627-4ECD-9A55-87BD9E85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94AF2-BCD0-42BD-95EC-509A0F93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53106-0BBB-4071-92FE-A5DD2BD5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4FEF0-9DB5-4BA5-BC3D-A4F1F04C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B5B-3755-490D-86BC-C57037B0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0899A-FCB8-4255-B29A-7672998F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E322-4BF2-4B88-ABBF-7402D135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81C3B-3EBE-4E99-82EF-53BB172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C36A-FB8E-4DB3-9654-F43B0E8D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F8BB9-CD79-41FD-8A5B-FE4744DF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FC59C-825D-4B67-BA24-C05C4656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B004-F555-482A-A9A7-9B5C7E27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0E16A-0FED-40E1-BBA5-1025CCF0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EF4A6-4BF5-47B7-A81F-0D19863B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22A4B-830A-4649-9CBC-1A8DEE83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AF8-26AF-4F80-A034-AF94682E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19C73-5171-4B43-A165-73CCF684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40AF0-0B23-4592-8A38-C71EA8DF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3BFF9-EF55-43A5-87CE-F4F0017C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E20A9-05EF-4B16-9F95-07CACBD3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55DE-7856-4731-816C-1B145A7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F6F69-754E-4970-8042-9193E8E4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0D6D5-0397-488B-8CFE-D4DCCF72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BADD6-4ED8-42F5-A27B-F93FCDAB2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804CE-0545-41D4-912F-4D8FE2B5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0B62E-0C6F-4D7E-A385-F57247CC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CCF-C185-4567-89B1-163C11F5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7306-7AF9-4604-B181-293B24C7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A9CF-45EA-4921-B9FE-DA15ADC4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62787-4CE2-450F-B0EB-A7ED1D14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2ADCC-7AF8-4590-9833-739FE609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34E86-F298-4225-B596-B26F08B3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5B482-1A88-4640-901F-3497E060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5C09-11E6-428F-A572-3758D78E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D40FC-E1DA-4D98-BE7B-70C116C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A696B-745A-431F-A603-9F620EE6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C6C4E-22DB-47F3-8F9A-5B1E0FA7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298A-F24C-452C-8202-72D1B152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C621-6946-4E43-B9C5-B93A01029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AE8-706F-4E30-B08D-91EC432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FD2-4D9F-47A8-BB1C-5701B547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EF6-042F-4DEB-8404-B6EA4697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BEDB-9D26-41B7-8ADA-EACFC50172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0A63-3826-43A4-A6E1-443117981FC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28B5-C22B-4ECC-8862-7C07E5353A0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8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088C8-DA1A-403B-96C6-45773762C62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3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3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4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13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7CE-CF67-4C3D-A3E8-62F7E5F0FD3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alitva.ru/" TargetMode="External"/><Relationship Id="rId3" Type="http://schemas.openxmlformats.org/officeDocument/2006/relationships/hyperlink" Target="http://www.liveinternet.ru/" TargetMode="External"/><Relationship Id="rId4" Type="http://schemas.openxmlformats.org/officeDocument/2006/relationships/hyperlink" Target="http://www.zoovet.ru/" TargetMode="Externa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920" y="1294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Отряды птиц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Прямоугольник 2"/>
          <p:cNvSpPr/>
          <p:nvPr/>
        </p:nvSpPr>
        <p:spPr>
          <a:xfrm>
            <a:off x="3200400" y="3505320"/>
            <a:ext cx="4572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к би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Л. И. Наб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 СОШ №80 им. В. П. Кузнец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Куп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п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3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общую характеристику отрядов птиц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-отряд Дневные хищные пт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-отряд Сов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-отряд Ку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-отряд Воробьин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-отрядАист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выступление с характеристикой признаков указанного отряда, заполнить таблицу в рабочей тетрад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379400" y="32457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57200" y="1447920"/>
          <a:ext cx="8229600" cy="5121000"/>
        </p:xfrm>
        <a:graphic>
          <a:graphicData uri="http://schemas.openxmlformats.org/drawingml/2006/table">
            <a:tbl>
              <a:tblPr/>
              <a:tblGrid>
                <a:gridCol w="1646280"/>
                <a:gridCol w="1644480"/>
                <a:gridCol w="1648080"/>
                <a:gridCol w="1644480"/>
                <a:gridCol w="16462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2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Object 5"/>
          <p:cNvGraphicFramePr/>
          <p:nvPr/>
        </p:nvGraphicFramePr>
        <p:xfrm>
          <a:off x="457200" y="2516040"/>
          <a:ext cx="4038480" cy="269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6040"/>
                    <a:ext cx="403848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457200" y="533520"/>
          <a:ext cx="8077320" cy="6021360"/>
        </p:xfrm>
        <a:graphic>
          <a:graphicData uri="http://schemas.openxmlformats.org/drawingml/2006/table">
            <a:tbl>
              <a:tblPr/>
              <a:tblGrid>
                <a:gridCol w="1616040"/>
                <a:gridCol w="1614600"/>
                <a:gridCol w="1616040"/>
                <a:gridCol w="1614600"/>
                <a:gridCol w="161604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яд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ные признаки отряд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а гнездовани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развития птенцов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ител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ные хищные птиц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умеренной длины, у большинства с острыми когтями. Клюв крючковидный, изогнут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стреб, сокол, гри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короткие или умеренно длинные, наружный палец может быть обращен и впереди и назад. Надклювье загнутое, с острыми краями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а, пустыни, тундра, горы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лин, ушастая сова, домовой сыч, сипух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ги средней длины, ильные; крылья короткие, широкие; летают тяжело. Клюв короткий, сильный; надклювье слегка загнутое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и, леса, пустын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одк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ерев, фазан, индейка, куропатка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ьи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ногах первый палец обращен назад. строение крыльев и клюва разнообраз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ей, дрозд, ласточка, синица, жаворонок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истообраз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ные ноги, гибкая длинная шея, маленькая голова, Клюв удлиненный, заостренный. Перьевой покров рыхлый, крылья относительно большие, широкие. Хвост коротки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ландшафты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нездов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пля рыжая, выпь малая, аист белый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2" name="Rectangle 134"/>
          <p:cNvSpPr/>
          <p:nvPr/>
        </p:nvSpPr>
        <p:spPr>
          <a:xfrm>
            <a:off x="30492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звучить видеозапись представителей отрядов в виде монолога животного, указав признаки, распространение, образ жизни, голос данного представител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рел степ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ова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лухар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групп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нек полев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группа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Цапля большая бел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Кроссворд «Птицы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07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305920" cy="63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горизонтали: 1. Мелкий представитель воробьинообразных. 2. Нелетающая, но хорошо плавающая и ныряющая птица. 3. Вид дроз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. Крупная нелетающая птица. 6. Птица из отряда воробьинообразных, в песне которой слышитс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Ты Витю видел?». 8. Представитель воробьинообразных, мельче воробья. 9. Крупный дневной хищ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0. Представитель воробьинообразных, прекрасный певец. 16. Вид крупных говорящих попуга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7. Птица из семейства вьюрк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 вертикали: 4. Птица — дневной хищник. 6. Мелкая утка. 7. Яркоокрашенный представитель курообразных. 8. Птица из отряда воробьинообразных. 11. Представитель вранов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2. Синица, вьющая гнездо из пуха в виде «варежки». 13. Мелкая сова.  15. Крупная морская пт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какие из этих птиц действительно могут поселиться в скворечн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кроссворд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ризонтали: 1. Воробей. 2 . Пингвин. 3. Рябинник. 5. Страус. 6. Чечевица. 8. Пищуха. 9. орел. 10. соловей. 14. Скворец. 16. Ара. 17. Чиж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 вертикали: 4. Ястреб. 6. чирок. 7. Фазан. 8. пеночка. 11. ворон. 12. Ремез. 13. Сыч. 15. Буревес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 воробей, пищуха, скворец, пеноч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Викторина «Живые синонимы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Часто в русской речи мы используем слова-синонимы, которые могут отразить и характер человека, внешний вид, особенности передвижения, особенности разговора. Например, мы говорим «топаешь как медведь», «это и ежу понятно», «голодный как вол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 с какими птицами сравнивают человека, когда говорят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.Щебечет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.Ворковать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.Шипеть,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4.Накаркать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5.Долбить (говорить одно и то же), как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6.Надутый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7.Плыть (идти плавно), как 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Tahoma"/>
              </a:rPr>
              <a:t>Ответы на вопросы викторин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Вороб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Голуб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Гус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Вор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Дяте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Индю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.Лебед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ам интересно было сегодня работать на урок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узнали нового и интерес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WordArt 4"/>
          <p:cNvSpPr txBox="1"/>
          <p:nvPr/>
        </p:nvSpPr>
        <p:spPr>
          <a:xfrm>
            <a:off x="1295280" y="228600"/>
            <a:ext cx="6858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дведём  итог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Цели урок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казать многообразие птиц различных отряд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скрыть особенности строения птиц, связанные с образом жи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основать роль птиц в природе и хозяйственной деятельности челове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Уметь находить известных птиц на рисунках, фотографиях, таблицах, находить необходимую информацию в тексте, электронном пособ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Латюшин В. В., Шапкин В. А. Биология. Животные: Учебник для 7 кл. общеобразоват. учеб, заведений. - М.: Дрофа, 2008 - 304 с.: ил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. Латюшин В.В. Биология. Животные 7 класс Тематическое и поурочное планирование к учебнику В.В. Латюшина и В.А.Шапкина «Биология. Животные»: Пособие для учителя 2-е изд.,стереотип-М.: Дрофа, 2003-193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И.Ф. Ишкина Биология. 7 класс. Поурочные планы по учебнику В.В. Латюшина и В.А.Шапкина. Издательство «Учитель АСТ», Волгоград 2002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Анашкина Е.Н. Кроссворды для школьников. Биология.- Ярославль.6 «Академия развития», 1997.-128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Алексеев В.А. 300 вопросов и ответов о животных. –Ярославль: Академия развития, 1997.-240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Мультимедийный справочник-определитель. Животный мир России. Птицы. Европкйская Россия, Урал, Западная Сибирь//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CD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RO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Авторы: В.К. Рябицев, О.Д. Вепринцева, Н.Ю. Киселева, А.А. Мосалов, Н.П. Овсянникова,  С.А. Букреев, О.В. Безюмкин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Фото Императорский пингвин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kalitva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Фото Африканский страус //subaryata.org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Фото Американский нанду// alexsh16.livejournal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Фото Казуар// vbkfzrjitxrf.beon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Фото Серый гусь// en.academic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Фото Казарка краснозобая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veintern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Фото Лебедь шипун //zoopar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Фото Орел степной// pesik.s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Фото Сова белая// fotki.yandex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Фото Глухарь//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www.zoovet.ru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ото Конек полевой //lifecity.com.ua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Фото Цапля большая белая// www.omskhunter.com 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29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§§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Tahoma"/>
              </a:rPr>
              <a:t>Задание №1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смотрите рисунки птиц разных отрядов. Выполните следующие зад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ать название птицам, изображённым на фо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отряды, к которым относятся данные птиц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звать признаки отряда. (по выбор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е из них занесены в красную книгу Новосибирской област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18" descr="http://im4-tub.yandex.net/i?id=108655168&amp;tov=4"/>
          <p:cNvPicPr/>
          <p:nvPr/>
        </p:nvPicPr>
        <p:blipFill>
          <a:blip r:embed="rId1"/>
          <a:stretch/>
        </p:blipFill>
        <p:spPr>
          <a:xfrm>
            <a:off x="6477120" y="1828800"/>
            <a:ext cx="2074680" cy="19605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9" descr="http://im0-tub.yandex.net/i?id=6145330&amp;tov=0"/>
          <p:cNvPicPr/>
          <p:nvPr/>
        </p:nvPicPr>
        <p:blipFill>
          <a:blip r:embed="rId2"/>
          <a:stretch/>
        </p:blipFill>
        <p:spPr>
          <a:xfrm>
            <a:off x="6770520" y="4495680"/>
            <a:ext cx="1748160" cy="2133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1" descr="http://im8-tub.yandex.net/i?id=11458522&amp;tov=8"/>
          <p:cNvPicPr/>
          <p:nvPr/>
        </p:nvPicPr>
        <p:blipFill>
          <a:blip r:embed="rId3"/>
          <a:stretch/>
        </p:blipFill>
        <p:spPr>
          <a:xfrm>
            <a:off x="2514600" y="4495680"/>
            <a:ext cx="1828800" cy="2133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i?id=99095301&amp;tov=4"/>
          <p:cNvPicPr/>
          <p:nvPr/>
        </p:nvPicPr>
        <p:blipFill>
          <a:blip r:embed="rId4"/>
          <a:stretch/>
        </p:blipFill>
        <p:spPr>
          <a:xfrm>
            <a:off x="3200400" y="1981080"/>
            <a:ext cx="2590920" cy="167652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48"/>
          <p:cNvSpPr/>
          <p:nvPr/>
        </p:nvSpPr>
        <p:spPr>
          <a:xfrm>
            <a:off x="1219320" y="12193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0"/>
          <p:cNvSpPr/>
          <p:nvPr/>
        </p:nvSpPr>
        <p:spPr>
          <a:xfrm>
            <a:off x="4038480" y="1371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1"/>
          <p:cNvSpPr/>
          <p:nvPr/>
        </p:nvSpPr>
        <p:spPr>
          <a:xfrm>
            <a:off x="7391520" y="1371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2"/>
          <p:cNvSpPr/>
          <p:nvPr/>
        </p:nvSpPr>
        <p:spPr>
          <a:xfrm>
            <a:off x="990720" y="418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53"/>
          <p:cNvSpPr/>
          <p:nvPr/>
        </p:nvSpPr>
        <p:spPr>
          <a:xfrm>
            <a:off x="3124080" y="4191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55"/>
          <p:cNvSpPr/>
          <p:nvPr/>
        </p:nvSpPr>
        <p:spPr>
          <a:xfrm>
            <a:off x="5334120" y="4114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6"/>
          <p:cNvSpPr/>
          <p:nvPr/>
        </p:nvSpPr>
        <p:spPr>
          <a:xfrm>
            <a:off x="739152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15" descr=""/>
          <p:cNvPicPr/>
          <p:nvPr/>
        </p:nvPicPr>
        <p:blipFill>
          <a:blip r:embed="rId5"/>
          <a:stretch/>
        </p:blipFill>
        <p:spPr>
          <a:xfrm>
            <a:off x="53352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6" descr=""/>
          <p:cNvPicPr/>
          <p:nvPr/>
        </p:nvPicPr>
        <p:blipFill>
          <a:blip r:embed="rId6"/>
          <a:stretch/>
        </p:blipFill>
        <p:spPr>
          <a:xfrm>
            <a:off x="457200" y="449568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8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1981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Казуар. Отряд Казуар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Лебедь шипун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 Африканский страус. Отряд Страусо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Казарка краснозобая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. Серый гусь. Отряд Гусе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6. Императорский пингвин. Отряд Пингв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7. Американский нанду. Отряд Нандуобраз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те рисунок. Выполните следующие зад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ать название птице, изображённой на фот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звать отряд, к которому относится данный вид п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i?id=11231&amp;tov=6"/>
          <p:cNvPicPr/>
          <p:nvPr/>
        </p:nvPicPr>
        <p:blipFill>
          <a:blip r:embed="rId1"/>
          <a:stretch/>
        </p:blipFill>
        <p:spPr>
          <a:xfrm>
            <a:off x="914400" y="1295280"/>
            <a:ext cx="3124080" cy="21970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i?id=86208267&amp;tov=3"/>
          <p:cNvPicPr/>
          <p:nvPr/>
        </p:nvPicPr>
        <p:blipFill>
          <a:blip r:embed="rId2"/>
          <a:stretch/>
        </p:blipFill>
        <p:spPr>
          <a:xfrm>
            <a:off x="4800600" y="12952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i?id=35598883&amp;tov=4"/>
          <p:cNvPicPr/>
          <p:nvPr/>
        </p:nvPicPr>
        <p:blipFill>
          <a:blip r:embed="rId3"/>
          <a:stretch/>
        </p:blipFill>
        <p:spPr>
          <a:xfrm>
            <a:off x="609480" y="4267080"/>
            <a:ext cx="2286000" cy="22957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i?id=23074610&amp;tov=2"/>
          <p:cNvPicPr/>
          <p:nvPr/>
        </p:nvPicPr>
        <p:blipFill>
          <a:blip r:embed="rId4"/>
          <a:stretch/>
        </p:blipFill>
        <p:spPr>
          <a:xfrm>
            <a:off x="3429000" y="4267080"/>
            <a:ext cx="2438280" cy="2286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i?id=3198956&amp;tov=3"/>
          <p:cNvPicPr/>
          <p:nvPr/>
        </p:nvPicPr>
        <p:blipFill>
          <a:blip r:embed="rId5"/>
          <a:stretch/>
        </p:blipFill>
        <p:spPr>
          <a:xfrm>
            <a:off x="6095880" y="4191120"/>
            <a:ext cx="26672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Text Box 9"/>
          <p:cNvSpPr/>
          <p:nvPr/>
        </p:nvSpPr>
        <p:spPr>
          <a:xfrm>
            <a:off x="114300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3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380988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4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6858000" y="39625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5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1828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1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5791320" y="9144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867280" y="914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2 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Tahoma"/>
              </a:rPr>
              <a:t>Ответы на задание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группа- Орел степной. Отряд Дневные хищные птицы (Соколообразны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группа- Сова белая. Отряд Сов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 группа- Глухарь. Отряд Кури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 группа- Конек полевой. Отряд Воробьин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группа- Цапля большая белая. Отряд Аистообраз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2-04-10T15:00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